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055E-5BF9-4A90-98B5-43F26F7381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972-BAF3-49A1-9D0E-B27F69E60D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63D-B6E3-46E5-A118-D39A1D1F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73C-5E3B-4739-86CA-B390A66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1EE-3E6A-4694-AB3D-79EB910F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2D3-FCA0-4CFB-A138-9321758C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83E-F1FE-4E69-BA9C-5E9A3003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AD0-49F1-439F-899C-7EE51F06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3D8-0703-4C68-B397-965DD1E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6B8-C2B0-42A4-982D-346B66F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F92-8595-4B2A-9EE2-34925ABA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C2-61E0-4FD6-935C-912032A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C32-0677-429E-A241-7D1E452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8F0-8FFD-4A24-B9DC-49CBF055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318-1765-4710-B00A-47D6B2A4CA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Curso de Inclusão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om os avanços da tecnologia no âmbito escolar, vimos a necessidade da inclusão de todos os professores nesse novo mundo digitalizado. Através de uma reunião entre os professores da Sala de Tecnologia Educacional, resolveu-se aplicar um curso básico das ferramentas que o computador  oferece aos professores regentes, proporcionando, com isso, uma maior interação entre os mesmos e fazendo com que estes complementem suas aulas com o uso da Sala de Tecnologia Educacion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undo%20digital"/>
          <p:cNvPicPr/>
          <p:nvPr/>
        </p:nvPicPr>
        <p:blipFill>
          <a:blip r:embed="rId1"/>
          <a:stretch/>
        </p:blipFill>
        <p:spPr>
          <a:xfrm>
            <a:off x="2994120" y="3938760"/>
            <a:ext cx="3155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stimular e facilitar aos professores regentes o uso de novas ferramentas em complementação às suas aulas, tendo em vista que grande parte dos alunos já estão inseridos tecnologicamente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laborar projetos interdisciplinares, proporcionando  interação entre os professores de disciplinas distintas para maior e melhor troca de informações entre os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 avaliação será realizada a partir da observância da participação dos professores  relativa à sua freqüência durante o curso, constando, também, a  auto-avaliação de cada um dos professores no relatório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1116000" y="111600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O curso “Inclusão Digital” foi oferecido aos professores da rede estadual da escola Dr. José Manoel Fontanillas Fragelli da cidade de Angélica -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ola"/>
          <p:cNvPicPr/>
          <p:nvPr/>
        </p:nvPicPr>
        <p:blipFill>
          <a:blip r:embed="rId1"/>
          <a:stretch/>
        </p:blipFill>
        <p:spPr>
          <a:xfrm>
            <a:off x="1547640" y="2852640"/>
            <a:ext cx="54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00000" y="179064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Os professores, por meio do curso “Inclusão Digital”, serão capacitados e inclusos em um programa que os fará ter uma noção das ferramentas básicas de informática, tais como: Windows, Word, Excel, Power Point, Paint e, também, a oportunidade da troca de informações e conversação através do MSN, visto que muitos professores não fazem uso destas ferramentas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bje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2960" y="2678760"/>
            <a:ext cx="722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Facilitar o uso da Sala de Tecnologia Educacional para os professores regentes, proporcionando maior e melhor interação  no preparo de suas aulas com o uso dos computador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042920" y="164916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Fazer a divulgação do projeto a ser desenvolvido por meio de reuniões efetuadas por turno para se obter o máximo de professores inclusos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Desenvolver um cronograma das aulas a serem ministradas na sala de tecnologia, fazendo um diagnóstico da realidade dos professores frente à Informática Educativa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Preparar um relatório  sobre o desempenho geral dos professores ao final do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vulgação d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item1"/>
          <p:cNvPicPr/>
          <p:nvPr/>
        </p:nvPicPr>
        <p:blipFill>
          <a:blip r:embed="rId1"/>
          <a:stretch/>
        </p:blipFill>
        <p:spPr>
          <a:xfrm>
            <a:off x="102060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item8"/>
          <p:cNvPicPr/>
          <p:nvPr/>
        </p:nvPicPr>
        <p:blipFill>
          <a:blip r:embed="rId2"/>
          <a:stretch/>
        </p:blipFill>
        <p:spPr>
          <a:xfrm>
            <a:off x="521172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item9"/>
          <p:cNvPicPr/>
          <p:nvPr/>
        </p:nvPicPr>
        <p:blipFill>
          <a:blip r:embed="rId3"/>
          <a:stretch/>
        </p:blipFill>
        <p:spPr>
          <a:xfrm>
            <a:off x="1019160" y="3938760"/>
            <a:ext cx="291312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item4"/>
          <p:cNvPicPr/>
          <p:nvPr/>
        </p:nvPicPr>
        <p:blipFill>
          <a:blip r:embed="rId4"/>
          <a:stretch/>
        </p:blipFill>
        <p:spPr>
          <a:xfrm>
            <a:off x="5210280" y="3938760"/>
            <a:ext cx="2913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s apostilas foram doadas pela direção esco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m 031"/>
          <p:cNvPicPr/>
          <p:nvPr/>
        </p:nvPicPr>
        <p:blipFill>
          <a:blip r:embed="rId1"/>
          <a:stretch/>
        </p:blipFill>
        <p:spPr>
          <a:xfrm>
            <a:off x="1187280" y="393372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magem 032"/>
          <p:cNvPicPr/>
          <p:nvPr/>
        </p:nvPicPr>
        <p:blipFill>
          <a:blip r:embed="rId2"/>
          <a:stretch/>
        </p:blipFill>
        <p:spPr>
          <a:xfrm>
            <a:off x="4427640" y="148428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fessores realizando 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0" descr="Imagem1"/>
          <p:cNvPicPr/>
          <p:nvPr/>
        </p:nvPicPr>
        <p:blipFill>
          <a:blip r:embed="rId1"/>
          <a:stretch/>
        </p:blipFill>
        <p:spPr>
          <a:xfrm>
            <a:off x="1020600" y="1600200"/>
            <a:ext cx="290988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1" descr="Imagem2"/>
          <p:cNvPicPr/>
          <p:nvPr/>
        </p:nvPicPr>
        <p:blipFill>
          <a:blip r:embed="rId2"/>
          <a:stretch/>
        </p:blipFill>
        <p:spPr>
          <a:xfrm>
            <a:off x="521172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2" descr="Imagem3"/>
          <p:cNvPicPr/>
          <p:nvPr/>
        </p:nvPicPr>
        <p:blipFill>
          <a:blip r:embed="rId3"/>
          <a:stretch/>
        </p:blipFill>
        <p:spPr>
          <a:xfrm>
            <a:off x="1020600" y="3938760"/>
            <a:ext cx="29098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Imagem 043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fessores realizando 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Imagem5"/>
          <p:cNvPicPr/>
          <p:nvPr/>
        </p:nvPicPr>
        <p:blipFill>
          <a:blip r:embed="rId1"/>
          <a:stretch/>
        </p:blipFill>
        <p:spPr>
          <a:xfrm>
            <a:off x="1042920" y="1557360"/>
            <a:ext cx="289260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Imagem6"/>
          <p:cNvPicPr/>
          <p:nvPr/>
        </p:nvPicPr>
        <p:blipFill>
          <a:blip r:embed="rId2"/>
          <a:stretch/>
        </p:blipFill>
        <p:spPr>
          <a:xfrm>
            <a:off x="521028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Imagem 037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Imagem 04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25:31Z</dcterms:created>
  <dc:creator>E.E. José Manuel F. Fragelli</dc:creator>
  <dc:description/>
  <dc:language>en-US</dc:language>
  <cp:lastModifiedBy>user</cp:lastModifiedBy>
  <dcterms:modified xsi:type="dcterms:W3CDTF">2009-08-03T21:50:54Z</dcterms:modified>
  <cp:revision>10</cp:revision>
  <dc:subject/>
  <dc:title>Curso de Inclusão Digital</dc:title>
</cp:coreProperties>
</file>